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A64-ACBE-4AF0-B809-DAE2F6C3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73F-A888-48A7-86AD-AAB8335B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80F-73BA-4940-A783-AE92FE85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D01-FBD7-43A6-B914-91A017EB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7F7-C5B2-4E8C-881A-55AB7488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F2A-0318-4B7A-9A66-D7FFB067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F35-7F86-4C91-BD13-5A638659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D42-726F-4B53-94CB-E6A4AC31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D65-69A3-4957-B9FB-00DDD01E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18E-398C-45C1-979C-D830CEE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15B-82F0-4E17-9A60-1F2F3A7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0DF-4284-4F32-AFA0-4F927B04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167C-C538-424E-82E4-2D73E482D9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ωτη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ρχ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λπιδ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ητε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νυκ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αρκ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χερ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ιμω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786120" y="57974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2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14200" y="1285920"/>
            <a:ext cx="492948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ηρ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υνη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υς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ειρ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αρξ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αρις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υγατηρ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ἰων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001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δρ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5178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υναιξ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0272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541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ει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0449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αρκ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αρι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0576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υγατε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5143680" y="5557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ἰω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85880" y="1928880"/>
            <a:ext cx="757224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λημα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η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νο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0" y="26956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572000" y="3197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572000" y="369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572000" y="4211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4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00040" y="1643040"/>
            <a:ext cx="4714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ἱμα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ωμα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νομα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5429160" y="27306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ἱμ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429160" y="323676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429160" y="37512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ωμ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5429160" y="429264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νο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5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85840" y="157176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σωτηρ ἐστιν ὁ Ἰησου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ὁ υἱος του πατρος ἐφυγ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χω ἀγαθην μη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ἰδον τους πατερας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βαπτιζει ὑδατ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οἱ ἀνδρες ἐχ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71492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Jesus the savi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71492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her’s son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a good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714920" y="38577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aw their fa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714920" y="43578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baptizes with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714920" y="48578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en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6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85840" y="1571760"/>
            <a:ext cx="421488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ὁ Χριστος ἀπεθανεν ὑπερ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ἀνδρων και γυναικ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οιετε το θελημ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loves two w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pirit does not like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l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have big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y saw the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714920" y="23162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t died on behalf of men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the will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714920" y="38163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ει δυο γυναικ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714920" y="43196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 πνευμα οὐ φιλει την σαρκ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714920" y="53118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χω μεγαλους ποδ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4714920" y="58244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το φ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4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85840" y="1571760"/>
            <a:ext cx="4714920" cy="32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λειονες στρατιωται ἐρχ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χεις μειζονα κεφαλην 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ὁ Ἰησους εἰχεν πλειονας μαθητας ἠ Ἰωαννη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ροφητης εἰμι μειζονος ἱερ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00076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00076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a bigger head than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000760" y="33433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esus have more disciples than Joh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997520" y="43275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a prophet of a greater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285840" y="1187280"/>
            <a:ext cx="54291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τίς ἐρ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θελω ἀρτον τι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τί φιλειτε τον Χρισ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ερι τίνων εἰπ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ατερες τινες εἰσιν πονηρ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τίνα ζητει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y are you (s.) pra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whom did you (pl.)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prophets are ca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law do you (pl.) ke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714920" y="18381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is co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4714920" y="2252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some b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14920" y="26370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do you (pl.) love Chr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14920" y="3038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what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hom- both plural) did he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4714920" y="3821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fathers are wi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711680" y="42116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m are you (pl.) see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8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4444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714920" y="45831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προσευχ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714920" y="49816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νι εἰπε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4714920" y="53769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φηται τινες καλουσ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4714920" y="57405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να νομον τηρει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1:53:05Z</dcterms:created>
  <dc:creator>Sarah</dc:creator>
  <dc:description/>
  <dc:language>en-US</dc:language>
  <cp:lastModifiedBy>Sarah</cp:lastModifiedBy>
  <dcterms:modified xsi:type="dcterms:W3CDTF">2009-08-09T11:00:49Z</dcterms:modified>
  <cp:revision>37</cp:revision>
  <dc:subject/>
  <dc:title>Slide 1</dc:title>
</cp:coreProperties>
</file>